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A7D-20DE-4FC9-AD8B-9596C7A6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2E1-5B33-40E9-9EA2-4522D09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6F8-22BC-485D-A10B-CBF28CF8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0BD-ADC5-435E-80A5-AB39822E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ED1-A898-4D54-9D5B-0FD0793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A99-2001-4C23-945A-04994F70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973-1604-41F7-B73C-0B2F66A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20A-351E-48B7-B6C5-B219069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6F5-05DB-4915-88CA-DD47E751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826-ADCD-45D3-833A-9ACDBCB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913-26CD-44A9-A672-7F906DA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B7E-F272-4F64-99DD-9474F19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E7E9-4F17-4EF1-9237-4ACC4709A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Las Comi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r: Cailan O’Le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324480" y="2286000"/>
            <a:ext cx="2552760" cy="2095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2209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5053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752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2857320" cy="215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66880" cy="206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76720" y="3733920"/>
            <a:ext cx="1876320" cy="233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209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ocad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2971800" cy="153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867280" y="3581280"/>
            <a:ext cx="2562480" cy="17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2514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leche de ch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pollo a la pa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76560" y="3619440"/>
          <a:ext cx="119088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6560" y="3619440"/>
                    <a:ext cx="119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0:52Z</dcterms:created>
  <dc:creator>olearycai</dc:creator>
  <dc:description/>
  <dc:language>en-US</dc:language>
  <cp:lastModifiedBy>olearycai</cp:lastModifiedBy>
  <dcterms:modified xsi:type="dcterms:W3CDTF">2012-04-04T18:08:24Z</dcterms:modified>
  <cp:revision>11</cp:revision>
  <dc:subject/>
  <dc:title>Las Comidas</dc:title>
</cp:coreProperties>
</file>